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7F87-E7E2-4157-A889-11209ED0F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664F-B9F2-4577-8813-365B2661B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CAC5-049C-48A0-9513-F0B8B4E65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B6AF-50D3-4448-ADA5-D4134423CD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29F-EC0F-4240-A28B-371B26D63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AC91-C9C4-4664-ABD8-70A59CF29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DD6C-55B3-48FA-B40C-11A3AB129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949A-B603-4258-BCF4-8467970F2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6820-2C6D-4DB1-86A4-5D3E84F0B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37B5-D4AB-4CBC-B2E4-2F96B75B9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8FF9-4984-4406-822F-32D241EF8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321D-924C-4F2D-BBF0-EFAF43C93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02E599-1BA4-4954-9E8C-E17C0DE40569}" type="slidenum">
              <a:rPr b="0" lang="it-IT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666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a40000"/>
                </a:solidFill>
                <a:latin typeface="Arial"/>
                <a:ea typeface="Arial"/>
              </a:rPr>
              <a:t>IL CONTRATTO DI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" action="ppaction://hlinksldjump"/>
              </a:rPr>
              <a:t>Le aziende commerc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2" action="ppaction://hlinksldjump"/>
              </a:rPr>
              <a:t>Aspetti giuridici della compravend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3" action="ppaction://hlinksldjump"/>
              </a:rPr>
              <a:t>Obblighi per il venditore e il compra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4" action="ppaction://hlinksldjump"/>
              </a:rPr>
              <a:t>Il contratto di compravend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5" action="ppaction://hlinksldjump"/>
              </a:rPr>
              <a:t>Le tratt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6" action="ppaction://hlinksldjump"/>
              </a:rPr>
              <a:t>La stipulazione del contra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7" action="ppaction://hlinksldjump"/>
              </a:rPr>
              <a:t>L’esecuzione del contrat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8" action="ppaction://hlinksldjump"/>
              </a:rPr>
              <a:t>Gli elementi del contrat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9" action="ppaction://hlinksldjump"/>
              </a:rPr>
              <a:t>Il tempo di consegna della me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0" action="ppaction://hlinksldjump"/>
              </a:rPr>
              <a:t>Il luogo di consegna della me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1" action="ppaction://hlinksldjump"/>
              </a:rPr>
              <a:t>Il trasporto tramite vet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2" action="ppaction://hlinksldjump"/>
              </a:rPr>
              <a:t>L’imballaggio e la ta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3" action="ppaction://hlinksldjump"/>
              </a:rPr>
              <a:t>Gli imballaggi e la tutela dell’ambi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4" action="ppaction://hlinksldjump"/>
              </a:rPr>
              <a:t>Le clausole di pagamento: tempo e lu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5" action="ppaction://hlinksldjump"/>
              </a:rPr>
              <a:t>Le modalità di paga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533520"/>
            <a:ext cx="914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ilda Ricciard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724280" y="2057400"/>
            <a:ext cx="3581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874800" y="5875200"/>
            <a:ext cx="323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1 Pearson Italia S.p.A.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Tutti i diritti riservati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46" name="Immagine 6" descr="LOGOParamond.BMP"/>
          <p:cNvPicPr/>
          <p:nvPr/>
        </p:nvPicPr>
        <p:blipFill>
          <a:blip r:embed="rId16"/>
          <a:stretch/>
        </p:blipFill>
        <p:spPr>
          <a:xfrm>
            <a:off x="7529400" y="5227560"/>
            <a:ext cx="633600" cy="11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17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2"/>
          <p:cNvGrpSpPr/>
          <p:nvPr/>
        </p:nvGrpSpPr>
        <p:grpSpPr>
          <a:xfrm>
            <a:off x="484200" y="1143000"/>
            <a:ext cx="8074800" cy="1066320"/>
            <a:chOff x="484200" y="1143000"/>
            <a:chExt cx="8074800" cy="1066320"/>
          </a:xfrm>
        </p:grpSpPr>
        <p:cxnSp>
          <p:nvCxnSpPr>
            <p:cNvPr id="140" name="_s58372"/>
            <p:cNvCxnSpPr>
              <a:stCxn id="141" idx="0"/>
              <a:endCxn id="142" idx="3"/>
            </p:cNvCxnSpPr>
            <p:nvPr/>
          </p:nvCxnSpPr>
          <p:spPr>
            <a:xfrm flipV="1" rot="16200000">
              <a:off x="5544720" y="520560"/>
              <a:ext cx="213840" cy="23108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3" name="_s58373"/>
            <p:cNvCxnSpPr>
              <a:stCxn id="144" idx="0"/>
              <a:endCxn id="142" idx="3"/>
            </p:cNvCxnSpPr>
            <p:nvPr/>
          </p:nvCxnSpPr>
          <p:spPr>
            <a:xfrm flipH="1" flipV="1" rot="5400000">
              <a:off x="3282480" y="569520"/>
              <a:ext cx="213840" cy="221292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2" name="_s58374"/>
            <p:cNvSpPr/>
            <p:nvPr/>
          </p:nvSpPr>
          <p:spPr>
            <a:xfrm>
              <a:off x="2741040" y="114300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300" spc="-1" strike="noStrike">
                  <a:solidFill>
                    <a:srgbClr val="3333cc"/>
                  </a:solidFill>
                  <a:latin typeface="Arial"/>
                </a:rPr>
                <a:t>ELEMENTI</a:t>
              </a:r>
              <a:endParaRPr b="0" lang="en-US" sz="23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44" name="_s58375"/>
            <p:cNvSpPr/>
            <p:nvPr/>
          </p:nvSpPr>
          <p:spPr>
            <a:xfrm>
              <a:off x="484200" y="178272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700" spc="-1" strike="noStrike">
                  <a:solidFill>
                    <a:srgbClr val="2009bc"/>
                  </a:solidFill>
                  <a:latin typeface="Arial"/>
                </a:rPr>
                <a:t>FISSI</a:t>
              </a:r>
              <a:endParaRPr b="0" lang="en-US" sz="2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41" name="_s58376"/>
            <p:cNvSpPr/>
            <p:nvPr/>
          </p:nvSpPr>
          <p:spPr>
            <a:xfrm>
              <a:off x="5006880" y="178272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700" spc="-1" strike="noStrike">
                  <a:solidFill>
                    <a:srgbClr val="2009bc"/>
                  </a:solidFill>
                  <a:latin typeface="Arial"/>
                </a:rPr>
                <a:t>ACCESSORI</a:t>
              </a:r>
              <a:endParaRPr b="0" lang="en-US" sz="27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145" name="AutoShape 9"/>
          <p:cNvSpPr/>
          <p:nvPr/>
        </p:nvSpPr>
        <p:spPr>
          <a:xfrm>
            <a:off x="1828800" y="224640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bd1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80880" y="2590920"/>
            <a:ext cx="3962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2f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Può essere espressa numerando i pezzi,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o con misure di lunghezza, di peso,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capacità a seconda che si tratti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merci solide, liquide o gassose</a:t>
            </a:r>
            <a:r>
              <a:rPr b="1" lang="it-IT" sz="1600" spc="-1" strike="noStrike">
                <a:solidFill>
                  <a:srgbClr val="1306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5029200" y="4495680"/>
            <a:ext cx="39625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Occorre indicare il luogo, il temp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e le modalità di pagamento del prezzo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da parte del comprator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5105520" y="4572000"/>
            <a:ext cx="3816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AMENTO DEL PREZZO</a:t>
            </a:r>
            <a:endParaRPr b="0" lang="en-US" sz="20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380880" y="3809880"/>
            <a:ext cx="3962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Può essere specificata mediant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descrizione o in base agli usi commerciali,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una stessa merce può avere diversi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livelli di qualità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457200" y="502920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È il corrispettivo in denar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dovuto dal compratore al venditor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1" name="WordArt 25"/>
          <p:cNvSpPr txBox="1"/>
          <p:nvPr/>
        </p:nvSpPr>
        <p:spPr>
          <a:xfrm>
            <a:off x="457200" y="2654280"/>
            <a:ext cx="3733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NTITA'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26"/>
          <p:cNvSpPr txBox="1"/>
          <p:nvPr/>
        </p:nvSpPr>
        <p:spPr>
          <a:xfrm>
            <a:off x="533520" y="3886200"/>
            <a:ext cx="3657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LITA'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27"/>
          <p:cNvSpPr txBox="1"/>
          <p:nvPr/>
        </p:nvSpPr>
        <p:spPr>
          <a:xfrm>
            <a:off x="1600200" y="5105520"/>
            <a:ext cx="1447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EZZO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380880" y="5943600"/>
            <a:ext cx="3886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La mancanza di uno di questi element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comporta la NULLITA’ del contra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29400" y="224640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bd1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6" name="AutoShape 30"/>
          <p:cNvSpPr/>
          <p:nvPr/>
        </p:nvSpPr>
        <p:spPr>
          <a:xfrm>
            <a:off x="5029200" y="2590920"/>
            <a:ext cx="396252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Fa riferimento al tempo e al luog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consegna della merc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7" name="WordArt 31"/>
          <p:cNvSpPr txBox="1"/>
          <p:nvPr/>
        </p:nvSpPr>
        <p:spPr>
          <a:xfrm>
            <a:off x="5181480" y="2654280"/>
            <a:ext cx="3657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EGNA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32"/>
          <p:cNvSpPr/>
          <p:nvPr/>
        </p:nvSpPr>
        <p:spPr>
          <a:xfrm>
            <a:off x="5029200" y="3505320"/>
            <a:ext cx="3886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Vi sono diverse clausole relative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all’imballaggio: gratuito, fatturato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a parte o a rendere, fornito dal client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5410080" y="3581280"/>
            <a:ext cx="2971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BALLAGGIO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4876920" y="5638680"/>
            <a:ext cx="41148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Questi elementi non sono giuridicament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Indispensabili, ma hanno un’importanz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tecnico-commerciale per soddisfa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le diverse esigenze dei contrae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380880" y="228600"/>
            <a:ext cx="822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GLI ELEMENTI DEL CONTRATTO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2" name="Pagina iniziale 11">
            <a:hlinkClick r:id="" action="ppaction://hlinkshowjump?jump=firstslide"/>
          </p:cNvPr>
          <p:cNvSpPr/>
          <p:nvPr/>
        </p:nvSpPr>
        <p:spPr>
          <a:xfrm>
            <a:off x="8381880" y="228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808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IL TEMPO DI CONSEGNA DELLA M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609480" y="1066680"/>
            <a:ext cx="8029800" cy="762120"/>
          </a:xfrm>
          <a:prstGeom prst="flowChartProcess">
            <a:avLst/>
          </a:prstGeom>
          <a:solidFill>
            <a:srgbClr val="e2c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Il contratto di compravendita  può prevedere clausole divers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relative al</a:t>
            </a: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TEMPO DI CONSEGNA DELLA MERC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6095880" y="2590920"/>
            <a:ext cx="198144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r>
              <a:rPr b="1" lang="it-IT" sz="1900" spc="-1" strike="noStrike">
                <a:solidFill>
                  <a:srgbClr val="e8e6f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PRONTA</a:t>
            </a:r>
            <a:r>
              <a:rPr b="0" lang="it-IT" sz="1900" spc="-1" strike="noStrike">
                <a:solidFill>
                  <a:srgbClr val="2009b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5181480" y="3276720"/>
            <a:ext cx="1981440" cy="761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r>
              <a:rPr b="0" lang="it-IT" sz="1900" spc="-1" strike="noStrike">
                <a:solidFill>
                  <a:srgbClr val="e8e6f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DIFFERIT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67" name="Connettore 2 14"/>
          <p:cNvCxnSpPr>
            <a:endCxn id="168" idx="2"/>
          </p:cNvCxnSpPr>
          <p:nvPr/>
        </p:nvCxnSpPr>
        <p:spPr>
          <a:xfrm flipV="1">
            <a:off x="2590920" y="2247120"/>
            <a:ext cx="2591280" cy="72468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69" name="Connettore 2 15"/>
          <p:cNvCxnSpPr/>
          <p:nvPr/>
        </p:nvCxnSpPr>
        <p:spPr>
          <a:xfrm flipV="1">
            <a:off x="2590920" y="2933280"/>
            <a:ext cx="3505680" cy="3888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70" name="Connettore 2 17"/>
          <p:cNvCxnSpPr/>
          <p:nvPr/>
        </p:nvCxnSpPr>
        <p:spPr>
          <a:xfrm>
            <a:off x="2590920" y="2971440"/>
            <a:ext cx="2591280" cy="68652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68" name="Oval 16"/>
          <p:cNvSpPr/>
          <p:nvPr/>
        </p:nvSpPr>
        <p:spPr>
          <a:xfrm>
            <a:off x="5181480" y="1905120"/>
            <a:ext cx="198144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IMMEDIAT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71" name="Connettore 2 17"/>
          <p:cNvCxnSpPr/>
          <p:nvPr/>
        </p:nvCxnSpPr>
        <p:spPr>
          <a:xfrm>
            <a:off x="762120" y="5409720"/>
            <a:ext cx="7734960" cy="25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2" name="AutoShape 9"/>
          <p:cNvSpPr/>
          <p:nvPr/>
        </p:nvSpPr>
        <p:spPr>
          <a:xfrm>
            <a:off x="457200" y="2133720"/>
            <a:ext cx="2133720" cy="167616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bd0923"/>
                </a:solidFill>
                <a:latin typeface="Arial"/>
              </a:rPr>
              <a:t>Clausol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bd0923"/>
                </a:solidFill>
                <a:latin typeface="Arial"/>
              </a:rPr>
              <a:t>contrattuali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TEMP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I 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914400" y="4191120"/>
            <a:ext cx="19051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IMMEDIA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124080" y="4191120"/>
            <a:ext cx="19051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RON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6324480" y="41911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DIFFER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924680" y="5334120"/>
            <a:ext cx="914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alibri"/>
              </a:rPr>
              <a:t>TEMP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04920" y="5867280"/>
            <a:ext cx="27432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STIPULAZION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78" name="Connettore 2 14"/>
          <p:cNvCxnSpPr/>
          <p:nvPr/>
        </p:nvCxnSpPr>
        <p:spPr>
          <a:xfrm>
            <a:off x="1599840" y="48895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79" name="Connettore 2 14"/>
          <p:cNvCxnSpPr/>
          <p:nvPr/>
        </p:nvCxnSpPr>
        <p:spPr>
          <a:xfrm>
            <a:off x="4114440" y="48769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0" name="Connettore 2 14"/>
          <p:cNvCxnSpPr/>
          <p:nvPr/>
        </p:nvCxnSpPr>
        <p:spPr>
          <a:xfrm flipV="1">
            <a:off x="1599840" y="5409720"/>
            <a:ext cx="1080" cy="457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1" name="Connettore 2 14"/>
          <p:cNvCxnSpPr/>
          <p:nvPr/>
        </p:nvCxnSpPr>
        <p:spPr>
          <a:xfrm>
            <a:off x="7314840" y="48769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2" name="Picture 28" descr="j0234131"/>
          <p:cNvPicPr/>
          <p:nvPr/>
        </p:nvPicPr>
        <p:blipFill>
          <a:blip r:embed="rId1"/>
          <a:stretch/>
        </p:blipFill>
        <p:spPr>
          <a:xfrm>
            <a:off x="2590920" y="2209680"/>
            <a:ext cx="1904760" cy="1524240"/>
          </a:xfrm>
          <a:prstGeom prst="rect">
            <a:avLst/>
          </a:prstGeom>
          <a:ln w="0">
            <a:noFill/>
          </a:ln>
        </p:spPr>
      </p:pic>
      <p:sp>
        <p:nvSpPr>
          <p:cNvPr id="183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IL LUOGO DI CONSEGNA DELLA MER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MCj03112900000[1]"/>
          <p:cNvPicPr/>
          <p:nvPr/>
        </p:nvPicPr>
        <p:blipFill>
          <a:blip r:embed="rId1"/>
          <a:stretch/>
        </p:blipFill>
        <p:spPr>
          <a:xfrm>
            <a:off x="2743200" y="1219320"/>
            <a:ext cx="1676520" cy="1218960"/>
          </a:xfrm>
          <a:prstGeom prst="rect">
            <a:avLst/>
          </a:prstGeom>
          <a:ln w="0">
            <a:noFill/>
          </a:ln>
        </p:spPr>
      </p:pic>
      <p:sp>
        <p:nvSpPr>
          <p:cNvPr id="186" name="Freccia a destra 10"/>
          <p:cNvSpPr/>
          <p:nvPr/>
        </p:nvSpPr>
        <p:spPr>
          <a:xfrm>
            <a:off x="2666880" y="5486400"/>
            <a:ext cx="3810240" cy="838080"/>
          </a:xfrm>
          <a:prstGeom prst="rightArrow">
            <a:avLst>
              <a:gd name="adj1" fmla="val 66324"/>
              <a:gd name="adj2" fmla="val 49210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utti i rischi e i costi del trasporto gravano su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87" name="Freccia a destra 10"/>
          <p:cNvSpPr/>
          <p:nvPr/>
        </p:nvSpPr>
        <p:spPr>
          <a:xfrm>
            <a:off x="2679840" y="4546440"/>
            <a:ext cx="1981080" cy="890640"/>
          </a:xfrm>
          <a:prstGeom prst="rightArrow">
            <a:avLst>
              <a:gd name="adj1" fmla="val 77139"/>
              <a:gd name="adj2" fmla="val 40172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sti e rischi de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88" name="WordArt 12"/>
          <p:cNvSpPr txBox="1"/>
          <p:nvPr/>
        </p:nvSpPr>
        <p:spPr>
          <a:xfrm>
            <a:off x="2819520" y="251460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GAZZIN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ENDITO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13"/>
          <p:cNvSpPr txBox="1"/>
          <p:nvPr/>
        </p:nvSpPr>
        <p:spPr>
          <a:xfrm>
            <a:off x="7010280" y="12193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GAZZIN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ATO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228600" y="2819520"/>
            <a:ext cx="23623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lausole contrattual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LUOGO DI CONSEGN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28600" y="37339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ARTENZ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28600" y="46483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LUOG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INTERMEDI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228600" y="55627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ESTIN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4" name="Freccia a destra 10"/>
          <p:cNvSpPr/>
          <p:nvPr/>
        </p:nvSpPr>
        <p:spPr>
          <a:xfrm>
            <a:off x="6781680" y="4495680"/>
            <a:ext cx="1905120" cy="990720"/>
          </a:xfrm>
          <a:prstGeom prst="rightArrow">
            <a:avLst>
              <a:gd name="adj1" fmla="val 66324"/>
              <a:gd name="adj2" fmla="val 41931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sti e rischi de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5" name="Freccia a destra 10"/>
          <p:cNvSpPr/>
          <p:nvPr/>
        </p:nvSpPr>
        <p:spPr>
          <a:xfrm>
            <a:off x="4724280" y="3657600"/>
            <a:ext cx="3962520" cy="838080"/>
          </a:xfrm>
          <a:prstGeom prst="rightArrow">
            <a:avLst>
              <a:gd name="adj1" fmla="val 81065"/>
              <a:gd name="adj2" fmla="val 51112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utti i rischi e i costi del trasporto gravano su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2666880" y="3733920"/>
            <a:ext cx="190512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4800600" y="4648320"/>
            <a:ext cx="167652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781680" y="5562720"/>
            <a:ext cx="182880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228600" y="990720"/>
            <a:ext cx="2362320" cy="19047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Arial"/>
              </a:rPr>
              <a:t>La CONSEGNA delle merci comporta il SOSTENIMENTO DI COSTI E L’ASSUNZIONE DI RISCHI</a:t>
            </a:r>
            <a:endParaRPr b="0" lang="en-US" sz="15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00" name="Picture 25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201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IL TRASPORTO TRAMITE VET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33320" y="1495440"/>
            <a:ext cx="3638880" cy="1657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8e6fe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5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Il trasporto può essere effettuato con mezzi del venditore o del compratore. Altre volte i contraenti si rivolgono a un’azienda specializzata:            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l VETTORE, </a:t>
            </a: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che richiede un compenso per il trasporto della mer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4495680" y="25909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OR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25909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OR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ASSEGNA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06" name="Connettore 2 14"/>
          <p:cNvCxnSpPr>
            <a:endCxn id="204" idx="0"/>
          </p:cNvCxnSpPr>
          <p:nvPr/>
        </p:nvCxnSpPr>
        <p:spPr>
          <a:xfrm flipH="1">
            <a:off x="5523840" y="2285640"/>
            <a:ext cx="1143720" cy="3056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07" name="Connettore 2 14"/>
          <p:cNvCxnSpPr/>
          <p:nvPr/>
        </p:nvCxnSpPr>
        <p:spPr>
          <a:xfrm>
            <a:off x="6667200" y="2285640"/>
            <a:ext cx="1220040" cy="3056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pic>
        <p:nvPicPr>
          <p:cNvPr id="208" name="Picture 10" descr="consegna"/>
          <p:cNvPicPr/>
          <p:nvPr/>
        </p:nvPicPr>
        <p:blipFill>
          <a:blip r:embed="rId1"/>
          <a:stretch/>
        </p:blipFill>
        <p:spPr>
          <a:xfrm>
            <a:off x="533520" y="3443400"/>
            <a:ext cx="3733560" cy="2728800"/>
          </a:xfrm>
          <a:prstGeom prst="rect">
            <a:avLst/>
          </a:prstGeom>
          <a:ln w="0">
            <a:noFill/>
          </a:ln>
        </p:spPr>
      </p:pic>
      <p:sp>
        <p:nvSpPr>
          <p:cNvPr id="209" name="Freccia a destra 16"/>
          <p:cNvSpPr/>
          <p:nvPr/>
        </p:nvSpPr>
        <p:spPr>
          <a:xfrm rot="5400000">
            <a:off x="5371920" y="3238200"/>
            <a:ext cx="30492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0" name="Freccia a destra 16"/>
          <p:cNvSpPr/>
          <p:nvPr/>
        </p:nvSpPr>
        <p:spPr>
          <a:xfrm rot="5400000">
            <a:off x="7733880" y="3238560"/>
            <a:ext cx="304920" cy="53316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4419720" y="3733920"/>
            <a:ext cx="2209680" cy="24382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438280"/>
              <a:gd name="textAreaBottom" fmla="*/ 2330640 h 2438280"/>
            </a:gdLst>
            <a:ahLst/>
            <a:rect l="textAreaLeft" t="textAreaTop" r="textAreaRight" b="textAreaBottom"/>
            <a:pathLst>
              <a:path w="21600" h="23834">
                <a:moveTo>
                  <a:pt x="3600" y="0"/>
                </a:moveTo>
                <a:arcTo wR="3600" hR="3600" stAng="16200000" swAng="-5400000"/>
                <a:lnTo>
                  <a:pt x="0" y="20234"/>
                </a:lnTo>
                <a:arcTo wR="3600" hR="3600" stAng="10800000" swAng="-5400000"/>
                <a:lnTo>
                  <a:pt x="18000" y="23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quando il prezz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el traspor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ovut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l vettore dev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sere pagato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l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VENDITOR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ALLA PARTENZA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781680" y="3733920"/>
            <a:ext cx="2210040" cy="24382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438280"/>
              <a:gd name="textAreaBottom" fmla="*/ 2330640 h 2438280"/>
            </a:gdLst>
            <a:ahLst/>
            <a:rect l="textAreaLeft" t="textAreaTop" r="textAreaRight" b="textAreaBottom"/>
            <a:pathLst>
              <a:path w="21600" h="23830">
                <a:moveTo>
                  <a:pt x="3600" y="0"/>
                </a:moveTo>
                <a:arcTo wR="3600" hR="3600" stAng="16200000" swAng="-5400000"/>
                <a:lnTo>
                  <a:pt x="0" y="20230"/>
                </a:lnTo>
                <a:arcTo wR="3600" hR="3600" stAng="10800000" swAng="-5400000"/>
                <a:lnTo>
                  <a:pt x="18000" y="23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quando il prezz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el traspor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ovut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l vettore dev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sere pagato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l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COMPRATOR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ALL’ARRIV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2"/>
          <a:srcRect l="1193" t="17078" r="1605" b="16897"/>
          <a:stretch/>
        </p:blipFill>
        <p:spPr>
          <a:xfrm>
            <a:off x="4622760" y="1330200"/>
            <a:ext cx="41194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4952880" y="1447920"/>
            <a:ext cx="34290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11056b"/>
                </a:solidFill>
                <a:latin typeface="Arial"/>
              </a:rPr>
              <a:t>CLAUSOLE TRASPOR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11056b"/>
                </a:solidFill>
                <a:latin typeface="Arial"/>
              </a:rPr>
              <a:t>tramite VETTOR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394080" y="176040"/>
            <a:ext cx="2535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55480" y="152280"/>
            <a:ext cx="80330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700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’IMBALLAGG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5" descr="cartoni"/>
          <p:cNvPicPr/>
          <p:nvPr/>
        </p:nvPicPr>
        <p:blipFill>
          <a:blip r:embed="rId1"/>
          <a:stretch/>
        </p:blipFill>
        <p:spPr>
          <a:xfrm>
            <a:off x="457200" y="2073240"/>
            <a:ext cx="4191120" cy="40132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1"/>
          <p:cNvSpPr/>
          <p:nvPr/>
        </p:nvSpPr>
        <p:spPr>
          <a:xfrm>
            <a:off x="228600" y="762120"/>
            <a:ext cx="8610480" cy="1676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0099">
                  <a:alpha val="0"/>
                </a:srgbClr>
              </a:gs>
              <a:gs pos="100000">
                <a:srgbClr val="e2c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L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’IMBALLAGGIO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, detto anche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CONFEZIONE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  <a:ea typeface="Arial"/>
              </a:rPr>
              <a:t>o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PACKAGING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è costituito da involucri di vario material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adibiti a contenere e proteggere la merce durante il trasporto,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la conservazione e la manipolazione, nonché a rende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più gradevole l’aspetto esteti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3581280" y="5105520"/>
            <a:ext cx="5257800" cy="76176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FORNITO DAL CLI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quando il compratore mette a disposizione del venditore l’imballaggio per il trasporto della merc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4267080" y="2438280"/>
            <a:ext cx="4572000" cy="76212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GRATU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Viene fornito dal venditore senza addebitare nessun importo 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343400" y="3352680"/>
            <a:ext cx="4495680" cy="76212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FATTURATO A PARTE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quando il venditore lo addebita 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4191120" y="4267080"/>
            <a:ext cx="4647960" cy="68580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A RENDE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quando il compratore ha l’obbligo di restituirlo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8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19520" y="365760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320" y="1447560"/>
            <a:ext cx="7239240" cy="533160"/>
          </a:xfrm>
          <a:prstGeom prst="rect">
            <a:avLst/>
          </a:prstGeom>
          <a:gradFill rotWithShape="0">
            <a:gsLst>
              <a:gs pos="0">
                <a:srgbClr val="e2caf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Il peso dell’imballaggio si chiama 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t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838080" y="2133720"/>
            <a:ext cx="7848720" cy="838080"/>
          </a:xfrm>
          <a:prstGeom prst="flowChartProcess">
            <a:avLst/>
          </a:prstGeom>
          <a:gradFill rotWithShape="0">
            <a:gsLst>
              <a:gs pos="0">
                <a:srgbClr val="e2caf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Se sommiamo al peso della sola merce (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peso netto</a:t>
            </a: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) la tara, otteniamo il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 peso lord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838080" y="3581280"/>
            <a:ext cx="19051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3657600" y="3581280"/>
            <a:ext cx="13716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A TARA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5181480" y="3657600"/>
            <a:ext cx="7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6248520" y="3581280"/>
            <a:ext cx="190476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838080" y="4572000"/>
            <a:ext cx="23623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809880" y="4572000"/>
            <a:ext cx="198144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5867280" y="4648320"/>
            <a:ext cx="7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124080" y="4572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6781680" y="4572000"/>
            <a:ext cx="137160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838080" y="5562720"/>
            <a:ext cx="23623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124080" y="5562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3809880" y="5562720"/>
            <a:ext cx="13716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6172200" y="5562720"/>
            <a:ext cx="198108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5334120" y="5638680"/>
            <a:ext cx="76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GLI IMBALLAGGI </a:t>
            </a:r>
            <a:br>
              <a:rPr sz="3200"/>
            </a:b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E LA TUTELA DELL’AMB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conai"/>
          <p:cNvPicPr/>
          <p:nvPr/>
        </p:nvPicPr>
        <p:blipFill>
          <a:blip r:embed="rId1"/>
          <a:stretch/>
        </p:blipFill>
        <p:spPr>
          <a:xfrm>
            <a:off x="6629400" y="23623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phpThumb_generated_thumbnailjpg"/>
          <p:cNvPicPr/>
          <p:nvPr/>
        </p:nvPicPr>
        <p:blipFill>
          <a:blip r:embed="rId2"/>
          <a:stretch/>
        </p:blipFill>
        <p:spPr>
          <a:xfrm>
            <a:off x="914400" y="1512720"/>
            <a:ext cx="2438280" cy="1535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9449105_conai-recupero-imballaggi-0"/>
          <p:cNvPicPr/>
          <p:nvPr/>
        </p:nvPicPr>
        <p:blipFill>
          <a:blip r:embed="rId3"/>
          <a:stretch/>
        </p:blipFill>
        <p:spPr>
          <a:xfrm>
            <a:off x="838080" y="5638680"/>
            <a:ext cx="2362320" cy="838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9"/>
          <p:cNvSpPr/>
          <p:nvPr/>
        </p:nvSpPr>
        <p:spPr>
          <a:xfrm>
            <a:off x="228600" y="3048120"/>
            <a:ext cx="3809880" cy="137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ff99"/>
              </a:gs>
              <a:gs pos="50000">
                <a:srgbClr val="e8e6fe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L’impiego di imballaggi a perde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causa gravi problemi ecologici …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.producendo tonnellate di rifiu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che INQUINANO L’AMBI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1" name="Freccia a destra 10"/>
          <p:cNvSpPr/>
          <p:nvPr/>
        </p:nvSpPr>
        <p:spPr>
          <a:xfrm rot="5400000">
            <a:off x="1523520" y="3048120"/>
            <a:ext cx="1143000" cy="3886200"/>
          </a:xfrm>
          <a:prstGeom prst="rightArrow">
            <a:avLst>
              <a:gd name="adj1" fmla="val 66324"/>
              <a:gd name="adj2" fmla="val 18560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Per contenere l’impatto ambientale  derivante dall’utilizzo di imballaggi in Italia è stato istitu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733920" y="1371600"/>
            <a:ext cx="5257800" cy="609480"/>
          </a:xfrm>
          <a:prstGeom prst="horizont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’UE con delle DIRETTIVE ha fissato delle regole su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3" name="AutoShape 15"/>
          <p:cNvSpPr/>
          <p:nvPr/>
        </p:nvSpPr>
        <p:spPr>
          <a:xfrm>
            <a:off x="4191120" y="2057400"/>
            <a:ext cx="2133360" cy="114300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siste nella riduzione del pes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 del volume dell’imballaggi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>
            <a:off x="4267080" y="3352680"/>
            <a:ext cx="2057400" cy="121932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he consiste nel 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REIMPIEGO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dell’imballaggio già utilizz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4267080" y="4724280"/>
            <a:ext cx="2133720" cy="160020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siste nel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RICICLAGGIO degli imballagg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 nel loro incenerimento per produrre energi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6" name="Oval 15"/>
          <p:cNvSpPr/>
          <p:nvPr/>
        </p:nvSpPr>
        <p:spPr>
          <a:xfrm>
            <a:off x="6629400" y="4648320"/>
            <a:ext cx="2057400" cy="11430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2f4776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e8e6fe"/>
                </a:solidFill>
                <a:latin typeface="Arial"/>
              </a:rPr>
              <a:t>RACCOL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e8e6fe"/>
                </a:solidFill>
                <a:latin typeface="Arial"/>
              </a:rPr>
              <a:t>DIFFERENZIAT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7" name="WordArt 16"/>
          <p:cNvSpPr txBox="1"/>
          <p:nvPr/>
        </p:nvSpPr>
        <p:spPr>
          <a:xfrm>
            <a:off x="4419720" y="2133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VENZIONE</a:t>
            </a:r>
            <a:endParaRPr b="0" lang="en-US" sz="16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17"/>
          <p:cNvSpPr txBox="1"/>
          <p:nvPr/>
        </p:nvSpPr>
        <p:spPr>
          <a:xfrm>
            <a:off x="4495680" y="34290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IUTILIZZO</a:t>
            </a:r>
            <a:endParaRPr b="0" lang="en-US" sz="14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WordArt 18"/>
          <p:cNvSpPr txBox="1"/>
          <p:nvPr/>
        </p:nvSpPr>
        <p:spPr>
          <a:xfrm>
            <a:off x="4495680" y="480060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CUPERO</a:t>
            </a:r>
            <a:endParaRPr b="0" lang="en-US" sz="16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CLAUSOLE DI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2209680" y="990720"/>
            <a:ext cx="4496040" cy="4572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TEMPO DI PAGAMENT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3" name="Rettangolo 15"/>
          <p:cNvSpPr/>
          <p:nvPr/>
        </p:nvSpPr>
        <p:spPr>
          <a:xfrm>
            <a:off x="2438280" y="1600200"/>
            <a:ext cx="213372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MEDI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il pagamento avviene al momento del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4" name="Rettangolo 15"/>
          <p:cNvSpPr/>
          <p:nvPr/>
        </p:nvSpPr>
        <p:spPr>
          <a:xfrm>
            <a:off x="22860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ANTICIP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il pagamento avviene prima della consegna della merc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5" name="Rettangolo 15"/>
          <p:cNvSpPr/>
          <p:nvPr/>
        </p:nvSpPr>
        <p:spPr>
          <a:xfrm>
            <a:off x="472428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PER CONTA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avviene entro un breve periodo dal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6" name="Rettangolo 15"/>
          <p:cNvSpPr/>
          <p:nvPr/>
        </p:nvSpPr>
        <p:spPr>
          <a:xfrm>
            <a:off x="693432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POSTICIPATO o DIFFER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avviene dopo 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67" name="Connettore 2 17"/>
          <p:cNvCxnSpPr/>
          <p:nvPr/>
        </p:nvCxnSpPr>
        <p:spPr>
          <a:xfrm>
            <a:off x="380880" y="3048120"/>
            <a:ext cx="8382600" cy="21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8" name="Rectangle 14"/>
          <p:cNvSpPr/>
          <p:nvPr/>
        </p:nvSpPr>
        <p:spPr>
          <a:xfrm>
            <a:off x="7849800" y="3276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TEMP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69" name="Connettore 2 14"/>
          <p:cNvCxnSpPr/>
          <p:nvPr/>
        </p:nvCxnSpPr>
        <p:spPr>
          <a:xfrm>
            <a:off x="1218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0" name="Connettore 2 14"/>
          <p:cNvCxnSpPr/>
          <p:nvPr/>
        </p:nvCxnSpPr>
        <p:spPr>
          <a:xfrm>
            <a:off x="3504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1" name="Connettore 2 14"/>
          <p:cNvCxnSpPr/>
          <p:nvPr/>
        </p:nvCxnSpPr>
        <p:spPr>
          <a:xfrm>
            <a:off x="571464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2" name="Connettore 2 14"/>
          <p:cNvCxnSpPr/>
          <p:nvPr/>
        </p:nvCxnSpPr>
        <p:spPr>
          <a:xfrm>
            <a:off x="8076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73" name="AutoShape 9"/>
          <p:cNvSpPr/>
          <p:nvPr/>
        </p:nvSpPr>
        <p:spPr>
          <a:xfrm>
            <a:off x="2362320" y="3505320"/>
            <a:ext cx="22860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della merc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74" name="Connettore 2 14"/>
          <p:cNvCxnSpPr/>
          <p:nvPr/>
        </p:nvCxnSpPr>
        <p:spPr>
          <a:xfrm flipV="1">
            <a:off x="3504960" y="3047760"/>
            <a:ext cx="1080" cy="457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75" name="AutoShape 14"/>
          <p:cNvSpPr/>
          <p:nvPr/>
        </p:nvSpPr>
        <p:spPr>
          <a:xfrm>
            <a:off x="457200" y="4343400"/>
            <a:ext cx="8153280" cy="1905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LUOGO DI PAGAMENT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Il prezzo deve essere pagato dal compratore al venditore nel LUOGO indicato nel contratto.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In mancanza di indicazioni contrattuali il pagamento deve avvenir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al MOMENTO e nel LUOGO di consegna 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7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267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LE MODALITA’ DI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8" descr="imagesCA3ZNQLC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9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23"/>
          <p:cNvSpPr/>
          <p:nvPr/>
        </p:nvSpPr>
        <p:spPr>
          <a:xfrm>
            <a:off x="6324480" y="3733920"/>
            <a:ext cx="2667240" cy="1600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e8e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Nei Paesi dell’UEM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la moneta di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pagamento è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bd0923"/>
                </a:solidFill>
                <a:latin typeface="Arial"/>
                <a:ea typeface="Arial"/>
              </a:rPr>
              <a:t>€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1" i="1" lang="it-IT" sz="2400" spc="-1" strike="noStrike">
                <a:solidFill>
                  <a:srgbClr val="bd0923"/>
                </a:solidFill>
                <a:latin typeface="Arial"/>
              </a:rPr>
              <a:t>EUR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066680" y="106668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BONIFICI 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GIROCONT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BANCAR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0880" y="3733920"/>
            <a:ext cx="1752840" cy="9903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ENAR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ONTANT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380880" y="4876920"/>
            <a:ext cx="3657600" cy="16002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ISPOSIZIONI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ELETTRONICH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’INCASS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(RI.BA. RICEVUTE BANCARIE</a:t>
            </a: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3" name="Oval 29"/>
          <p:cNvSpPr/>
          <p:nvPr/>
        </p:nvSpPr>
        <p:spPr>
          <a:xfrm>
            <a:off x="3809880" y="914400"/>
            <a:ext cx="3200400" cy="14479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BANCARI,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CIRCOLARI,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POST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4" name="Oval 30"/>
          <p:cNvSpPr/>
          <p:nvPr/>
        </p:nvSpPr>
        <p:spPr>
          <a:xfrm>
            <a:off x="380880" y="2438280"/>
            <a:ext cx="1752840" cy="990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AMBI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5" name="Oval 31"/>
          <p:cNvSpPr/>
          <p:nvPr/>
        </p:nvSpPr>
        <p:spPr>
          <a:xfrm>
            <a:off x="4648320" y="5410080"/>
            <a:ext cx="2286000" cy="990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ONTRASSEGN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87" name="Picture 32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3676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152280" y="914400"/>
            <a:ext cx="8740800" cy="3794040"/>
          </a:xfrm>
          <a:prstGeom prst="ellipse">
            <a:avLst/>
          </a:prstGeom>
          <a:gradFill rotWithShape="0">
            <a:gsLst>
              <a:gs pos="0">
                <a:srgbClr val="ccffff">
                  <a:alpha val="59215"/>
                </a:srgbClr>
              </a:gs>
              <a:gs pos="100000">
                <a:srgbClr val="ccffcc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243828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PRODUTTOR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Aziende industr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e aziende agricol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14600" y="2438280"/>
            <a:ext cx="934920" cy="838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e8e6fe"/>
                </a:solidFill>
                <a:latin typeface="Arial"/>
              </a:rPr>
              <a:t>BEN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5638680" y="2438280"/>
            <a:ext cx="935280" cy="838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e8e6fe"/>
                </a:solidFill>
                <a:latin typeface="Arial"/>
              </a:rPr>
              <a:t>BEN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480000" y="2514600"/>
            <a:ext cx="24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CONSUMATOR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FINAL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19051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MERCATI DI ACQUISIZIONE</a:t>
            </a: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867280" y="1981080"/>
            <a:ext cx="26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MERCATI DI SBOC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8954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ISTRIBUZIONE</a:t>
            </a: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853920" y="4876920"/>
            <a:ext cx="935280" cy="1079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7334280" y="4876920"/>
            <a:ext cx="934920" cy="1079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905120" y="4876920"/>
            <a:ext cx="5333760" cy="1532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LE AZIENDE COMMERCIALI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si occupano del trasferimento nello spazio e nel tempo delle merci prodott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 aziende industriali e aziende agricole,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senza effettuare su ess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trasformazioni mater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0" y="320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LE AZIENDE COMMERCIALI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0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581280" y="2209680"/>
            <a:ext cx="19814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ZIEND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MMERCI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2286000" y="3657600"/>
            <a:ext cx="4572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e8e6fe"/>
                </a:solidFill>
                <a:latin typeface="Arial"/>
              </a:rPr>
              <a:t>PRODUZIONE INDIRETTA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808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AZIENDE COMMERCIALI</a:t>
            </a:r>
            <a:r>
              <a:rPr b="1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572000" y="990720"/>
            <a:ext cx="4343400" cy="1218960"/>
          </a:xfrm>
          <a:prstGeom prst="flowChartProcess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INTERMEDIA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ADATTAMEN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ORIENTAMENTO ALLA PRODU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INANZIAMEN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5" name="Freccia a destra 10"/>
          <p:cNvSpPr/>
          <p:nvPr/>
        </p:nvSpPr>
        <p:spPr>
          <a:xfrm>
            <a:off x="2133720" y="914400"/>
            <a:ext cx="2438280" cy="1219320"/>
          </a:xfrm>
          <a:prstGeom prst="rightArrow">
            <a:avLst>
              <a:gd name="adj1" fmla="val 66324"/>
              <a:gd name="adj2" fmla="val 37115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990033"/>
                </a:solidFill>
                <a:latin typeface="Arial"/>
              </a:rPr>
              <a:t>SVOLGONO LE SEGUENTI FUNZION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80880" y="914400"/>
            <a:ext cx="1828800" cy="12952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LE AZIEND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COMMERC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grpSp>
        <p:nvGrpSpPr>
          <p:cNvPr id="67" name="Organization Chart 18"/>
          <p:cNvGrpSpPr/>
          <p:nvPr/>
        </p:nvGrpSpPr>
        <p:grpSpPr>
          <a:xfrm>
            <a:off x="231840" y="2362320"/>
            <a:ext cx="8376480" cy="3711960"/>
            <a:chOff x="231840" y="2362320"/>
            <a:chExt cx="8376480" cy="3711960"/>
          </a:xfrm>
        </p:grpSpPr>
        <p:cxnSp>
          <p:nvCxnSpPr>
            <p:cNvPr id="68" name="_s44062"/>
            <p:cNvCxnSpPr>
              <a:stCxn id="69" idx="0"/>
              <a:endCxn id="70" idx="2"/>
            </p:cNvCxnSpPr>
            <p:nvPr/>
          </p:nvCxnSpPr>
          <p:spPr>
            <a:xfrm flipV="1" rot="16200000">
              <a:off x="6786720" y="3760200"/>
              <a:ext cx="233280" cy="215640"/>
            </a:xfrm>
            <a:prstGeom prst="bentConnector3">
              <a:avLst>
                <a:gd name="adj1" fmla="val 48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44052"/>
            <p:cNvCxnSpPr/>
            <p:nvPr/>
          </p:nvCxnSpPr>
          <p:spPr>
            <a:xfrm flipV="1" rot="16200000">
              <a:off x="2876400" y="3223080"/>
              <a:ext cx="374400" cy="1294560"/>
            </a:xfrm>
            <a:prstGeom prst="bentConnector3">
              <a:avLst>
                <a:gd name="adj1" fmla="val 32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4053"/>
            <p:cNvCxnSpPr/>
            <p:nvPr/>
          </p:nvCxnSpPr>
          <p:spPr>
            <a:xfrm flipH="1" flipV="1" rot="5400000">
              <a:off x="1739880" y="3370320"/>
              <a:ext cx="301680" cy="1052280"/>
            </a:xfrm>
            <a:prstGeom prst="bentConnector3">
              <a:avLst>
                <a:gd name="adj1" fmla="val 362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44054"/>
            <p:cNvCxnSpPr/>
            <p:nvPr/>
          </p:nvCxnSpPr>
          <p:spPr>
            <a:xfrm flipV="1" rot="16200000">
              <a:off x="5728680" y="1652040"/>
              <a:ext cx="254520" cy="2679480"/>
            </a:xfrm>
            <a:prstGeom prst="bentConnector3">
              <a:avLst>
                <a:gd name="adj1" fmla="val 371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4055"/>
            <p:cNvCxnSpPr/>
            <p:nvPr/>
          </p:nvCxnSpPr>
          <p:spPr>
            <a:xfrm flipH="1" flipV="1" rot="5400000">
              <a:off x="3022920" y="1653840"/>
              <a:ext cx="684720" cy="2225520"/>
            </a:xfrm>
            <a:prstGeom prst="bentConnector3">
              <a:avLst>
                <a:gd name="adj1" fmla="val 136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44056"/>
            <p:cNvSpPr/>
            <p:nvPr/>
          </p:nvSpPr>
          <p:spPr>
            <a:xfrm>
              <a:off x="2495520" y="2362320"/>
              <a:ext cx="3718080" cy="50292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11056b"/>
                  </a:solidFill>
                  <a:latin typeface="Arial"/>
                </a:rPr>
                <a:t>AZIENDE  COMMERCIALI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6" name="_s44057"/>
            <p:cNvSpPr/>
            <p:nvPr/>
          </p:nvSpPr>
          <p:spPr>
            <a:xfrm>
              <a:off x="234360" y="3119400"/>
              <a:ext cx="4285080" cy="632520"/>
            </a:xfrm>
            <a:prstGeom prst="roundRect">
              <a:avLst>
                <a:gd name="adj" fmla="val 18565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PER CONTO PROPRI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0" name="_s44058"/>
            <p:cNvSpPr/>
            <p:nvPr/>
          </p:nvSpPr>
          <p:spPr>
            <a:xfrm>
              <a:off x="5002200" y="3119400"/>
              <a:ext cx="3588120" cy="6325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PER CONTO ALTRUI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7" name="_s44059"/>
            <p:cNvSpPr/>
            <p:nvPr/>
          </p:nvSpPr>
          <p:spPr>
            <a:xfrm>
              <a:off x="231840" y="4036680"/>
              <a:ext cx="2339280" cy="2027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ALL’INGROSS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cquistano merc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irettamente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produttor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 le rivendono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 consistenti quantità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d aziende industrial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8" name="_s44060"/>
            <p:cNvSpPr/>
            <p:nvPr/>
          </p:nvSpPr>
          <p:spPr>
            <a:xfrm>
              <a:off x="2747160" y="4036680"/>
              <a:ext cx="2345760" cy="20376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AL DETTAGLI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cquistano merc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grossisti o 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produttor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 le rivendono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 piccole quantità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i consumatori final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69" name="_s44061"/>
            <p:cNvSpPr/>
            <p:nvPr/>
          </p:nvSpPr>
          <p:spPr>
            <a:xfrm>
              <a:off x="5411160" y="3984840"/>
              <a:ext cx="3197160" cy="1731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avoriscono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a conclusione degli affari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r conto di altre aziende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2009bc"/>
                  </a:solidFill>
                  <a:latin typeface="Arial"/>
                </a:rPr>
                <a:t>AUSILIARI DEL COMMERCIO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(come i rappresentanti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 gli agenti di commercio)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79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ASPETTI GIURIDICI DELLA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609480" y="914400"/>
            <a:ext cx="8229600" cy="114300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LA COMPRAVENDITA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È IL CONTRATTO CON CU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UN SOGGETTO DETTO 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VENDITORE 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TRASFERISCE LA PROPRIETÀ DI UN BE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AD UN ALTRO SOGGETTO DETTO 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80880" y="2438280"/>
            <a:ext cx="243864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L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MPRAVEND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5257800" y="2514600"/>
            <a:ext cx="3657600" cy="11430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BILATERAL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poiché richiede la prese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i due contrae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VENDITORE e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4" name="Freccia a destra 16"/>
          <p:cNvSpPr/>
          <p:nvPr/>
        </p:nvSpPr>
        <p:spPr>
          <a:xfrm>
            <a:off x="2971800" y="2590920"/>
            <a:ext cx="2133720" cy="761760"/>
          </a:xfrm>
          <a:prstGeom prst="rightArrow">
            <a:avLst>
              <a:gd name="adj1" fmla="val 62694"/>
              <a:gd name="adj2" fmla="val 6224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5181480" y="3809880"/>
            <a:ext cx="3733920" cy="11430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CONSENSUALE 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in quanto si perfeziona nel momen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in cui le parti raggiungono l’accord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su tutti gli elementi del contrat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257800" y="5105520"/>
            <a:ext cx="3657600" cy="121896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 TITOLO ONEROS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perché ciascun contraente soppor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un “sacrificio”  in cambi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i un “vantaggio” economi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7" name="Freccia a destra 16"/>
          <p:cNvSpPr/>
          <p:nvPr/>
        </p:nvSpPr>
        <p:spPr>
          <a:xfrm>
            <a:off x="2971800" y="3886200"/>
            <a:ext cx="2133720" cy="762120"/>
          </a:xfrm>
          <a:prstGeom prst="rightArrow">
            <a:avLst>
              <a:gd name="adj1" fmla="val 62694"/>
              <a:gd name="adj2" fmla="val 62216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89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437688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Freccia a destra 16"/>
          <p:cNvSpPr/>
          <p:nvPr/>
        </p:nvSpPr>
        <p:spPr>
          <a:xfrm>
            <a:off x="2971800" y="5181480"/>
            <a:ext cx="2133720" cy="762120"/>
          </a:xfrm>
          <a:prstGeom prst="rightArrow">
            <a:avLst>
              <a:gd name="adj1" fmla="val 62694"/>
              <a:gd name="adj2" fmla="val 62216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OBBLIGHI </a:t>
            </a:r>
            <a:br>
              <a:rPr sz="3200"/>
            </a:b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PER IL VENDITORE E IL COMPRA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La stipulazione del contratto di compravendita fa sorg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OBBLIG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PER I DUE CONTRA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3880" y="3200400"/>
            <a:ext cx="259092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NDI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57800" y="3200400"/>
            <a:ext cx="266688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A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895120" y="28954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888160" y="29084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33520" y="4114800"/>
            <a:ext cx="4038480" cy="2057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segnare la cosa vendu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il compratore dall’evi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ossia dalla possibilità che un terz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ssa far valere diritti acquisi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precedenza)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il compratore da vizi occul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876920" y="4114800"/>
            <a:ext cx="3733560" cy="1752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irare la merce ogge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 contratto nel luogo prestabil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gare il prezzo nei mod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nei tempi concorda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9" name="Freccia a destra 16"/>
          <p:cNvSpPr/>
          <p:nvPr/>
        </p:nvSpPr>
        <p:spPr>
          <a:xfrm rot="5400000">
            <a:off x="2629080" y="3619440"/>
            <a:ext cx="30456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99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0" name="Freccia a destra 16"/>
          <p:cNvSpPr/>
          <p:nvPr/>
        </p:nvSpPr>
        <p:spPr>
          <a:xfrm rot="5400000">
            <a:off x="6438960" y="3619440"/>
            <a:ext cx="30456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99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1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458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IL CONTRATTO DI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5181480" y="3200400"/>
            <a:ext cx="358164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2. STIPULAZIONE 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104" name="Picture 7" descr="CONTRATTO"/>
          <p:cNvPicPr/>
          <p:nvPr/>
        </p:nvPicPr>
        <p:blipFill>
          <a:blip r:embed="rId1"/>
          <a:stretch/>
        </p:blipFill>
        <p:spPr>
          <a:xfrm>
            <a:off x="533520" y="1219320"/>
            <a:ext cx="4190760" cy="48276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8"/>
          <p:cNvSpPr/>
          <p:nvPr/>
        </p:nvSpPr>
        <p:spPr>
          <a:xfrm>
            <a:off x="533520" y="2590920"/>
            <a:ext cx="4190760" cy="248112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UN’OPERAZION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DI COMPRAVEND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SI SVOLG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ATTRAVERS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TRE FASI PRINCIP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88080" y="2049480"/>
            <a:ext cx="2263680" cy="700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2009bc"/>
                </a:solidFill>
                <a:latin typeface="Arial"/>
                <a:ea typeface="Arial"/>
              </a:rPr>
              <a:t>1. TRAT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4114800" y="4648320"/>
            <a:ext cx="358128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3. ESECUZIONE 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TRAT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imagesCAL9A42U"/>
          <p:cNvPicPr/>
          <p:nvPr/>
        </p:nvPicPr>
        <p:blipFill>
          <a:blip r:embed="rId1"/>
          <a:srcRect l="0" t="0" r="0" b="3676"/>
          <a:stretch/>
        </p:blipFill>
        <p:spPr>
          <a:xfrm>
            <a:off x="4876920" y="449568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4"/>
          <p:cNvSpPr/>
          <p:nvPr/>
        </p:nvSpPr>
        <p:spPr>
          <a:xfrm>
            <a:off x="609480" y="838080"/>
            <a:ext cx="8077320" cy="24386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NELLA FASE DELLE TRATTATIVE I POTENZIALI CONTRAENTI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cc0000"/>
                </a:solidFill>
                <a:latin typeface="Arial"/>
              </a:rPr>
              <a:t>VENDITORE E COMPRATORE 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ENTRANO IN CONTATTO SCAMBIANDOSI RECIPROCHE PROPOSTE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SE LA PROPOSTA INIZIALE VIENE ACCETTATA DALLA CONTROPARTE 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L CONTRATTO E’ CONCLUSO;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N CASO CONTRARIO PROSEGUONO LE TRATTATIVE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112" name="Picture 16" descr="untitled"/>
          <p:cNvPicPr/>
          <p:nvPr/>
        </p:nvPicPr>
        <p:blipFill>
          <a:blip r:embed="rId2"/>
          <a:srcRect l="0" t="0" r="0" b="7995"/>
          <a:stretch/>
        </p:blipFill>
        <p:spPr>
          <a:xfrm>
            <a:off x="457200" y="4495680"/>
            <a:ext cx="38098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113" name="Organization Chart 18"/>
          <p:cNvGrpSpPr/>
          <p:nvPr/>
        </p:nvGrpSpPr>
        <p:grpSpPr>
          <a:xfrm>
            <a:off x="457200" y="3200400"/>
            <a:ext cx="8227440" cy="1294920"/>
            <a:chOff x="457200" y="3200400"/>
            <a:chExt cx="8227440" cy="129492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47960" y="2739240"/>
              <a:ext cx="259560" cy="2216160"/>
            </a:xfrm>
            <a:prstGeom prst="bentConnector3">
              <a:avLst>
                <a:gd name="adj1" fmla="val 375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333240" y="2739960"/>
              <a:ext cx="259560" cy="2215080"/>
            </a:xfrm>
            <a:prstGeom prst="bentConnector3">
              <a:avLst>
                <a:gd name="adj1" fmla="val 375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671560" y="3200400"/>
              <a:ext cx="379728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009bc"/>
              </a:solidFill>
              <a:miter/>
            </a:ln>
            <a:effectLst>
              <a:outerShdw dist="63504" dir="19383909" blurRad="0" rotWithShape="0">
                <a:srgbClr val="2009b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3333cc"/>
                  </a:solidFill>
                  <a:latin typeface="Arial"/>
                </a:rPr>
                <a:t>TRATTATIVE</a:t>
              </a:r>
              <a:endParaRPr b="0" lang="en-US" sz="24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57200" y="3977280"/>
              <a:ext cx="3797280" cy="518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CONTRATTAZIONE 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DI PRESENZA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887360" y="3977280"/>
              <a:ext cx="3797280" cy="518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CONTRATTAZIONE 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A DISTANZA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119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A STIPULAZIONE DEL CONTR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ompravendita"/>
          <p:cNvPicPr/>
          <p:nvPr/>
        </p:nvPicPr>
        <p:blipFill>
          <a:blip r:embed="rId1"/>
          <a:srcRect l="0" t="0" r="6661" b="10006"/>
          <a:stretch/>
        </p:blipFill>
        <p:spPr>
          <a:xfrm>
            <a:off x="304920" y="1219320"/>
            <a:ext cx="3674880" cy="23619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4"/>
          <p:cNvSpPr/>
          <p:nvPr/>
        </p:nvSpPr>
        <p:spPr>
          <a:xfrm>
            <a:off x="3809880" y="1219320"/>
            <a:ext cx="5029200" cy="236196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LA STIPULAZIONE DEL CONTRAT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SI HA NEL MOMENTO IN CUI CHI HA FAT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LA PROPOSTA VIENE A CONOSCE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ELL’ACCETTAZIONE DELL’ALTRA PAR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b050"/>
                </a:solidFill>
                <a:latin typeface="Arial"/>
              </a:rPr>
              <a:t>LA LEGGE NON PREVED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b050"/>
                </a:solidFill>
                <a:latin typeface="Arial"/>
              </a:rPr>
              <a:t>UNA FORMA VINCOLA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4419360"/>
            <a:ext cx="2133720" cy="114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alibri"/>
              </a:rPr>
              <a:t>IL CONTRATTO PUÒ ESSERE STIPULATO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alibri"/>
              </a:rPr>
              <a:t>FORME DIVE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AutoShape 7"/>
          <p:cNvCxnSpPr>
            <a:endCxn id="125" idx="2"/>
          </p:cNvCxnSpPr>
          <p:nvPr/>
        </p:nvCxnSpPr>
        <p:spPr>
          <a:xfrm flipV="1">
            <a:off x="2209320" y="4403520"/>
            <a:ext cx="8391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8"/>
          <p:cNvCxnSpPr>
            <a:endCxn id="127" idx="2"/>
          </p:cNvCxnSpPr>
          <p:nvPr/>
        </p:nvCxnSpPr>
        <p:spPr>
          <a:xfrm>
            <a:off x="2209320" y="5257800"/>
            <a:ext cx="839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Oval 10"/>
          <p:cNvSpPr/>
          <p:nvPr/>
        </p:nvSpPr>
        <p:spPr>
          <a:xfrm>
            <a:off x="3048120" y="3962520"/>
            <a:ext cx="5943600" cy="880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ONTRATTO VERBAL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Se concluso a voce, senza compilare documenti scrit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3048120" y="5029200"/>
            <a:ext cx="59436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ONTRATTO SCRI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FORMALE 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(redatto e firmato in presenza dei contraenti)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NON FORMALE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(i contraenti si accordano a dista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mediante scambio di corrispondenza)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’ESECUZIONE DEL CONTR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14680" y="1047240"/>
            <a:ext cx="3390840" cy="1257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8000"/>
          </a:bodyPr>
          <a:p>
            <a:pPr marL="35604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GLI OBBLIGHI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604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RISULTANTI DAL CONTRATTO CHE HANNO STIPUL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imagesCAFLVTXH"/>
          <p:cNvPicPr/>
          <p:nvPr/>
        </p:nvPicPr>
        <p:blipFill>
          <a:blip r:embed="rId1"/>
          <a:stretch/>
        </p:blipFill>
        <p:spPr>
          <a:xfrm>
            <a:off x="0" y="4603680"/>
            <a:ext cx="3200400" cy="2254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5791320" y="2590920"/>
            <a:ext cx="3047760" cy="1676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I CONTRATT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ORMATI E TRASMESS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CON MEZZI ELETTRONIC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HANNO LO STESSO VALO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DEI CONTRATTI CARTACE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3" name="Freccia a destra 10"/>
          <p:cNvSpPr/>
          <p:nvPr/>
        </p:nvSpPr>
        <p:spPr>
          <a:xfrm>
            <a:off x="2133720" y="2438280"/>
            <a:ext cx="3581280" cy="3505320"/>
          </a:xfrm>
          <a:prstGeom prst="rightArrow">
            <a:avLst>
              <a:gd name="adj1" fmla="val 66324"/>
              <a:gd name="adj2" fmla="val 1896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Molti contratti vengono stipulati a seguito dello scambio di documenti commerciali per via elettronica (preventivi, ordini ecc.) </a:t>
            </a:r>
            <a:r>
              <a:rPr b="1" i="1" lang="it-IT" sz="1800" spc="-1" strike="noStrike">
                <a:solidFill>
                  <a:srgbClr val="11056b"/>
                </a:solidFill>
                <a:latin typeface="Arial"/>
              </a:rPr>
              <a:t>tramite reti telematiche che collegano aziende divers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5562720" y="4343400"/>
            <a:ext cx="3352680" cy="1523880"/>
          </a:xfrm>
          <a:prstGeom prst="ellipse">
            <a:avLst/>
          </a:prstGeom>
          <a:gradFill rotWithShape="0">
            <a:gsLst>
              <a:gs pos="0">
                <a:srgbClr val="e8e6fe"/>
              </a:gs>
              <a:gs pos="50000">
                <a:srgbClr val="b2b2b2"/>
              </a:gs>
              <a:gs pos="100000">
                <a:srgbClr val="e8e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AUTENTICITA’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E RISERVATEZZ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SONO GARANTITI DALL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IRMA ELETTRONIC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DEL MITT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09480" y="1066680"/>
            <a:ext cx="266724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NDI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609480" y="1752480"/>
            <a:ext cx="266724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A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8" name="Freccia a destra 16"/>
          <p:cNvSpPr/>
          <p:nvPr/>
        </p:nvSpPr>
        <p:spPr>
          <a:xfrm>
            <a:off x="3352680" y="1116000"/>
            <a:ext cx="1828800" cy="1219320"/>
          </a:xfrm>
          <a:prstGeom prst="rightArrow">
            <a:avLst>
              <a:gd name="adj1" fmla="val 62694"/>
              <a:gd name="adj2" fmla="val 3333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GUON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15:26Z</dcterms:created>
  <dc:creator>gilda ricciardi</dc:creator>
  <dc:description/>
  <dc:language>en-US</dc:language>
  <cp:lastModifiedBy>Deborah</cp:lastModifiedBy>
  <cp:lastPrinted>2009-04-22T19:24:48Z</cp:lastPrinted>
  <dcterms:modified xsi:type="dcterms:W3CDTF">2011-05-31T12:50:53Z</dcterms:modified>
  <cp:revision>402</cp:revision>
  <dc:subject/>
  <dc:title>il contratto di compravendita</dc:title>
</cp:coreProperties>
</file>